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773-102B-4F92-9C99-8D077D43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5BE-6583-4AFA-9210-A2565153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F6345-FD72-4A0B-BBBF-80577AA4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8AA64-0E3E-45FB-AE5A-6BF10F07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5F9F9-5C77-4E65-9C40-CE644AED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305A2-E815-41FD-A1D0-EE22A1A9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66EE8-B78B-46D8-96D2-82E6A970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5D26B-25FE-4622-82F2-388B46BF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C6728-5786-4667-AE09-3A8FB65C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6488C-9FAF-4DA2-B70C-280A6A7F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2B9B2-D8E4-4EE9-9DDC-C7B94D13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CB812-E614-481D-9C7A-A8F6DEEA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1AFF-489F-4A61-843F-D8D6E885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854FD-F8CF-4C68-868F-FE629D22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4E83E-F8A5-49C6-B9EA-2557724D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A98B4-7183-4DBE-A4D3-3DE211DA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D25DE-686B-4664-B244-73251696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9175B-E7DE-4E35-87AD-CAA2F8E8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5F3EF-66A8-4A20-A074-87EF531A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051FF-4CF5-4CD6-B1A1-956E229A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54A52-D5F7-42AE-82D9-95915CC7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FCC46-EAC7-4B9E-B70D-65538768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5C823-EB8D-4ECC-BB95-934DF7AF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DB0B-D141-4885-915B-3BA5A1A4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7B19A-2DBA-42FA-868F-67493707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0B95C-202C-4C66-8130-61F18313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AEBE3-FAC9-486D-A944-64FE6232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1FC31-6E51-4400-BFFA-DAEEB0CD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3E8D6-5B1C-4BE9-A9BB-07EF2300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0AF5F-D9D0-4D6F-A0A4-57E94C8D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3AFF2-AAB6-4984-9CDD-2CB2C019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A5A5A-576B-4F43-8E41-D64F5A7D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A9DA6-175B-46BC-8FDC-3CCEDAFC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C9A2B-9F95-4C66-AFA9-495081A9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12C9-E2AC-4FF2-9D97-0AA35DD8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CDA27-158E-4F6F-9F55-14D38A77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7FB33-9431-4D8C-86F9-5EE118B8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E8C36-8ACF-4367-B288-9826F89B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9E536-800F-4051-A704-3C578559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40EB4-1C2A-4150-8A34-909E3736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5A9C3-3ECB-47E3-A8A2-B1EC164C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AC737-DAE2-4C37-8968-A06C8CD7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60FC6-4DC4-44A9-B5FB-E491A1CB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307D2-32F3-4DCA-92E2-133122FE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16EA1-91CA-4820-91D6-2A31F5A7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3593-E7E3-467D-B352-DB6A22CA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C2E55-D0D8-45B1-8767-BEE5284D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85414-D309-4747-9155-65825C14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E71F8-3946-43B5-9C84-4B5CE7FC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21D0B-E1F5-49EB-A092-3BA630F8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88342-276B-4B93-9AE7-5FC6F9CE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D31DC-79AD-42B6-A1F9-34FB4C28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94F55-284D-459B-AE93-5981ED32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707983-5AB4-42B3-AFA4-CB57DB3C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5E4FF-6BB9-4457-94EB-640FDC98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BC8716-C51E-4668-AE64-CCAE582D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3760-7CB5-4482-93A3-EB6C5E3D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D1844-0D87-4D93-A726-29F3B25C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C3F741-1AC4-4C7F-9917-14BF8EEB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2BA5F-4FFA-4DE8-AFDB-0288E500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D1681-C514-4898-BEB1-CB9043B2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13FEB5-2441-4E82-8A33-FDE3DFA3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E8DF4-AA2E-4568-A321-2B6DC160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4A9AF-00AA-4D73-8E3B-8059962D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B31D7-5DC7-4C24-8609-B3135221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C172DA-0C8E-4CAF-8247-66B8E47B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0FA914-9615-4D46-9AA3-F888C4C6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4400-F11E-460D-B39C-44FFABED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61F863-ACAF-43E4-B304-56D211AF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C39FAA-DF6D-415E-ACBD-868DAB66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614D10-3896-43EF-9D2C-F6EF9F29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F0C739-E5A3-48FA-9AA0-5AA1A796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DA7AC4-EB98-4D0E-8598-825FCDBD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D99D2-65D7-4E2E-8689-224707C0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FF3C95-45C9-4A4E-99C2-A6E9196C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0CA120-1761-4F71-A70F-11792C08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B5464D-B27F-493A-9DA4-0712F0EF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F7007D-8D9A-4C9B-A4B8-34CBEA88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64FE-2122-44CD-B744-CEFD71FA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A5746F-96EE-427E-A97E-E14A6AD1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33EA88-B353-477D-BF7B-A66E6160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B82B73-44EF-4108-8C9E-63A63206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288AF1-5584-4868-8EA0-96B6FF0A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D22F42-1E2E-4B63-9626-0162F637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3D3F97-BFDC-4128-BE89-1D68BA24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DD9100-5F3D-4CB5-B396-2D800A56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49EB6F-31CD-4DC9-ADE2-A01EDDE6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65516B-5265-44E9-B932-37E18B8A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1F4866-9E2F-4BDA-810D-314BDDBE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1C0C-F878-43ED-8893-6CB13E50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41144C-6A99-42E6-B3A0-8A9CE70B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4E96D7-C9B0-49EB-934F-DA437B2A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E88988-C963-4F08-B7A6-603B80B5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1B6EE6-7694-457F-812C-580D4A0A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944F45-EA7B-4169-82C2-63AA48A5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407EE5-6BE8-4367-B7E3-78D01C8A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F1A815-7DC4-4E4E-B323-45E6F595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857085-BCC7-468B-9620-9BB4B030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192B2E-3372-4E49-9B31-809B0120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E572BB-8928-407A-BB8C-B14AB30F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1148-EB8F-4F29-A1C8-2C60E2D8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B98DDD-AE0E-4F77-9E44-C131E10F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6F751C-721E-436E-A0AD-1DD65F1F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9D5DD0-9A07-4796-8C3B-18422DAE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6F5A4D-ACDC-45DC-AB9E-B0ACCABC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2D6324-E639-48B4-9168-BF62F19D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DDDB86-3467-40B8-ADC3-C7EA3384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DAE491-DD22-4230-A3A4-106BF7C0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2574B2-B8C4-4E03-B1EA-C19EC5B3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C30DAA-7789-4572-B1F0-AE91B3AE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7E90EF-9345-46D2-9F30-13A5A76D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B596-D6D4-4A93-B940-7A5D51B8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62E6-2C65-487F-92DC-857A82E6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D35277-C24C-490E-83F4-7A6EB03D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9F141E-B795-452F-B880-8AAA2918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E69C36-D9D9-47C9-87C2-92389D75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7DC409-4604-4E1C-932D-18CD1BB7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0B9A3E-3B9E-4E5B-8C88-90AF28F7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CBA808-459C-46E2-B03C-FE4CAF0F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2CB0A5-AEF7-4624-8396-424E9989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E9C72E-906F-4575-AB5E-F729ECB7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D408A0-BA6F-4692-96A0-794E7DBE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0DB072-60A7-4360-88A2-4AA7C4EF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4452-E045-4363-AF46-040EB53B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80A8F4-1B3B-46FF-918B-99CE2795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A743FF-90A5-44F1-861C-D39E5841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3F2F01-9CFC-428C-8A47-728A02BC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722D60-E695-4D45-B045-CD002E99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C07E9C-9A0F-4784-A18E-59AB796D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968DEE-A11F-4171-A307-E3955749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4D4BD9-32C3-4EC5-BF42-2C35916B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D5DDDD-2A30-4B36-9A9C-A5D0B2D5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5DBBA4-4E18-4E76-BA3F-F40CD93B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1C7F2D-13E3-420E-8A81-C36DCB5E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BDC9-C06E-4212-BDC1-BBEB8D79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6EA1C3-810E-4837-8813-5B0494A7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73B6F8-2D6B-4CBA-8EFF-F615B363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A67034-668A-4694-A9A7-BF284579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B951B5-84E4-420D-A7EE-748372AE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2EFCEB-32D0-4DBA-A1C0-A931571A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F91E33-D909-4032-9E5F-04359303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09D54C-527C-43AD-BC57-727B83CC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165927-82EE-4983-8677-1CBE30A6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A8127B-50B4-4EFC-BFA4-3E59990B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8E7E5A-2FB9-48CA-8FC1-6CFF2095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7B14-4617-41D3-9DBD-54372DF0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6DBBB8-7D1D-421B-8391-A82CAB71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70D389-8DE4-4E14-991C-3B9C5289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8A4E6E-3F18-424F-A023-3007EDDC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304CD6-424C-4592-9E71-F8238286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A430C9-9A6F-4946-B8FD-29C8D86D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AECD16-F7AD-4BC3-9D39-CF018368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1AFA39-ECF2-4B42-8848-5DDC6154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21B4E7-4398-4378-AEEA-85B87250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E018D0-603C-4451-8F08-7D535DB5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B80224-45B9-4CD5-A71E-55C5B656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5D04-112A-4E6B-A271-4C76F711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2264DA-B19F-4750-AAED-C46FE0E8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743F90-B27B-4E45-8C82-9A429FB7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724C02-97C0-48D3-B456-BE0AF711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E17AD4-EF41-4889-9312-7262DCEC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EE0B11-7F54-48CA-89A2-701121D7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4ED40C-BD53-427F-B0EB-26BBECCF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FE1EA7-F897-400D-B8A6-1000C547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60FC6E-729C-4ADD-A703-0D9E7DD7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9BE486-46E1-4A42-9710-5824A539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94DCBA-F790-4107-AF28-2A4A9F08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538BE-B224-413F-B8CE-5FF783BC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BF3EEE-2FE3-4D20-861B-45AD5BAF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44E635-DAF8-4126-AA03-DDBC75FD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B34549-9DAC-48B8-B059-D6B6AC8F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F344A-617D-4BDA-AA34-14137BAB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B1AC8-C439-4242-A1C9-4A810F98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97282-E210-43F9-9D63-E5698FF5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B496A-D1EC-4692-A534-611AED6C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D00C-46E7-424D-A4D2-87C8D9C9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FCEFA-F1DD-4866-A9FE-EC2C4DB1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BE2E2-4C4A-4FE7-B941-4D7CB103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2ADC2-F89C-4984-9028-945E52D2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3D4D9-D9B4-4081-BA89-7E47BF3A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E91B0-C989-4A28-A7AE-EE83026E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C5916-ACA5-4AF4-80F3-4518AAA6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8412C-E46F-417B-A6F7-C3B6A3F1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26053-217F-4708-A6CF-CBE80FC8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58D3E-A098-442F-9E58-08A329A2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90E12-91A6-43B2-B3A1-E16E43EA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9BF-D2E0-41E6-92A1-74DE18EF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8701F-3A74-404D-9C03-15384FB8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796BC-0677-4A3C-9650-B78738EC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98993-702F-4022-89C5-F1532020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81AD8-76CA-46DC-A808-399833A9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7DC80-BA97-45FD-9698-4E9D3C77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F037C-4E4A-4AFF-BE7D-F57CE53D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4F2BE-4783-47AE-AE4C-B8E0CD08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24345-6F14-459F-A4AD-4D716680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CBCF0-8896-4F8F-935E-C761BF1E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097F8-A221-4FF3-A327-6F29BC2C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E762-C410-43E0-91EE-DE721AFA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83B5E-9130-46FB-9544-CD1E8162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77AEF-89C4-464B-B62D-C2E57FF7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E85E0-F4D4-48B7-8D92-1937292B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AC240-38E1-4316-A0B1-DEBF86F4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D3620-AE77-4DE6-951F-EF2C55D9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DBF74-49CD-4D65-B1BB-F2F78D48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1C5F2-5F2E-407E-A284-B0BFA2A8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C0ED5-64F0-4D5E-85FB-90D3B8F2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6F620-DF5B-42C0-9735-02A4004B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4D542-BEF6-42D9-94D4-454B7104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86C2-4614-4DFC-B555-96B47ABA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DEE8D-949D-45EB-AC08-42D641B7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73BF3-BF2F-4C17-844E-E3468AB0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31182-65D9-4F7B-A52F-68B06F52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4147F-CFD1-4522-9594-5329B4B6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A0088-053F-4964-B502-76A6C0DF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7C19D-DFCB-412F-8EFF-FDEF7AA1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79C9A-116C-4F38-9D91-48B5349B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553AD-F14B-48B5-9213-6152E756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D23D9-3F83-45E3-872B-EA64820A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FA5DF-20A4-487D-8BA0-CBDD6EE3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1E22-B4BD-4C86-A93A-29515529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62777-D6DE-4179-A086-F422F589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96452-C99A-4CB3-BF75-DE0E0E76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DD343-F676-4821-9A9C-FEBB3ABE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DA150-7F2C-4AF0-8C04-BCCD6BE8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EDF55-6483-4AB7-A149-C582C338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0D717-9A1D-4571-903F-F1A64151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B2761-FF4A-4488-8817-D3C970E1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D1A1F-3976-4BB3-B91D-C12204FC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904A7-1474-4A6F-8FD6-900460C8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28EDE-919C-480F-B3F7-37517163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20DF-D2FC-4FA6-8B07-DF1F82E6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3D9CF-196C-4E6F-86AB-F0A17E0A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0A18A-A10D-4BFA-AC56-77AF6CBD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08E51-B6BE-43E1-B5D9-B34040F9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92C3C-6D43-47B9-8764-A98567D0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886FC-217C-4D39-AA19-00629884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164FA-0AEA-43AF-89D4-35245308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5A86F-4B3B-466B-B5BE-355C65DC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35560-5527-4B23-907C-F096CA36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D8867-1F9B-4EA2-AAE3-65399691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08C09-1D4B-4860-BB0E-A55C72BF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6FF-C770-4128-9653-C23960D7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FB90C-7E60-41FE-A5C2-6ABDD433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A75CF-CFEE-44F2-BC50-CA8A091C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8CE27-AA9A-44E8-9720-6522B711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43DDF-D400-4826-ABD8-AB99D7A3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035A3-C900-4243-BEDF-1FE8245A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E7BAB-CFE1-4236-86A4-02E0C9AC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7EEA8-7161-423D-AFA1-9134C852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AF644-C592-4AA8-B79A-33488789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80DDD-5F28-42F6-A275-6ED7C9DC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BFA33-29AC-48E0-84FA-D1634092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66D9-66BD-41C0-B7AB-E1F6107400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BA87-85EF-4F38-AA8A-1151C06D6D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8DF0-F4DF-4035-A603-7F8562F142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6621-4584-483F-A18B-F6E8C63BD5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24A5-FF2A-4A54-B820-1BEF018DD0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F3D4-562D-4408-83B1-C25D1FCEFE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3415-0EA1-4CEE-8034-D7457D822B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E817-EF1C-417C-95EB-9554A2BF99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115F-7EB8-427C-9B55-27585AC70B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4A2C-82D7-4087-8817-681A16F8B6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2A68-E5C6-4BA0-976A-88AA0A1DFE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40C8-FABD-49CF-896A-39B099DA7E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085C-8E0E-4D72-ADAA-EF7537642B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EA3C-70EC-4096-8BCF-B54C72D430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A5AE-3D68-45ED-ACB1-FBDB9AD53B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2559-E251-44AF-B18C-8970A9CD4E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2048-AD18-44D2-B923-111071A230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7C07-ECE3-4F6D-82C8-447F28F97F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072F-D9CC-47EE-B8A7-F9EF793CBE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62C0-A6AE-4EBF-B6A2-9E3FCED228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9584-BBA1-4EDA-997F-D42C70075B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6B25-ABB4-4965-B2FA-A240F5788E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91E5-3ADD-4FE7-8827-C7AE5D0663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EF70-EF69-4527-93F2-204C194098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D2AF-F1AC-4773-A609-AB355F3627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1786-B359-4948-B1C5-610F9A8738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EC0B-5CC5-4210-A509-45A5E3A691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1C93-0B33-449E-8571-FE981C1977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0FD0-2BBA-46EC-B49F-46473460A5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A969-A2EF-41CB-9131-E798711D4B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9A0E-875D-4CB9-A0AC-3E6C057B86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2BD7-E75A-45AA-8CC1-F468C18A9C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5A96-1C4E-46B9-B954-526BB59C10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0CD4-DB41-48AF-85C3-F6B799CE5E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D311-E3D7-4154-96A4-1BAAB8B9D6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E993-40D9-474F-A0CB-C0A2355AA1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6867-75E5-4738-9885-7E2306EB19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A6E6-7C66-4ADB-9BD5-6DAD48AC05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9C7B-9B02-4451-8E8F-13C29F0089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2A2F-A57B-40E2-A9B8-E797D9F450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066680" y="1517760"/>
            <a:ext cx="7010640" cy="119052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28679" descr=""/>
          <p:cNvPicPr/>
          <p:nvPr/>
        </p:nvPicPr>
        <p:blipFill>
          <a:blip r:embed="rId2"/>
          <a:stretch/>
        </p:blipFill>
        <p:spPr>
          <a:xfrm>
            <a:off x="1871640" y="3127320"/>
            <a:ext cx="54007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69633" descr=""/>
          <p:cNvPicPr/>
          <p:nvPr/>
        </p:nvPicPr>
        <p:blipFill>
          <a:blip r:embed="rId1"/>
          <a:stretch/>
        </p:blipFill>
        <p:spPr>
          <a:xfrm>
            <a:off x="228600" y="946080"/>
            <a:ext cx="8686800" cy="52196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2"/>
          <a:stretch/>
        </p:blipFill>
        <p:spPr>
          <a:xfrm>
            <a:off x="8101080" y="2205000"/>
            <a:ext cx="504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68609" descr=""/>
          <p:cNvPicPr/>
          <p:nvPr/>
        </p:nvPicPr>
        <p:blipFill>
          <a:blip r:embed="rId1"/>
          <a:stretch/>
        </p:blipFill>
        <p:spPr>
          <a:xfrm>
            <a:off x="233280" y="1009800"/>
            <a:ext cx="8677440" cy="48384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1979640" y="3298680"/>
            <a:ext cx="1655640" cy="8654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2556000" y="5229360"/>
            <a:ext cx="29527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67586" descr=""/>
          <p:cNvPicPr/>
          <p:nvPr/>
        </p:nvPicPr>
        <p:blipFill>
          <a:blip r:embed="rId1"/>
          <a:stretch/>
        </p:blipFill>
        <p:spPr>
          <a:xfrm>
            <a:off x="195120" y="687240"/>
            <a:ext cx="8753760" cy="59817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8416800" y="793800"/>
            <a:ext cx="505080" cy="47304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755640" y="1600200"/>
            <a:ext cx="2303640" cy="4730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4"/>
          <a:stretch/>
        </p:blipFill>
        <p:spPr>
          <a:xfrm>
            <a:off x="684360" y="4767120"/>
            <a:ext cx="6551640" cy="8938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5"/>
          <a:stretch/>
        </p:blipFill>
        <p:spPr>
          <a:xfrm>
            <a:off x="539640" y="5748480"/>
            <a:ext cx="6551640" cy="89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图片 66562" descr=""/>
          <p:cNvPicPr/>
          <p:nvPr/>
        </p:nvPicPr>
        <p:blipFill>
          <a:blip r:embed="rId1"/>
          <a:stretch/>
        </p:blipFill>
        <p:spPr>
          <a:xfrm>
            <a:off x="1376280" y="1900080"/>
            <a:ext cx="6391440" cy="30578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769080" cy="9363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3"/>
          <a:stretch/>
        </p:blipFill>
        <p:spPr>
          <a:xfrm>
            <a:off x="1476360" y="2924280"/>
            <a:ext cx="6769080" cy="9363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4"/>
          <a:stretch/>
        </p:blipFill>
        <p:spPr>
          <a:xfrm>
            <a:off x="1042920" y="3948120"/>
            <a:ext cx="6769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图片 65537" descr=""/>
          <p:cNvPicPr/>
          <p:nvPr/>
        </p:nvPicPr>
        <p:blipFill>
          <a:blip r:embed="rId1"/>
          <a:stretch/>
        </p:blipFill>
        <p:spPr>
          <a:xfrm>
            <a:off x="233280" y="2004840"/>
            <a:ext cx="8677440" cy="28483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2"/>
          <a:stretch/>
        </p:blipFill>
        <p:spPr>
          <a:xfrm>
            <a:off x="684360" y="3156120"/>
            <a:ext cx="7416720" cy="4730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3"/>
          <a:stretch/>
        </p:blipFill>
        <p:spPr>
          <a:xfrm>
            <a:off x="684360" y="3716280"/>
            <a:ext cx="7416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图片 64513" descr=""/>
          <p:cNvPicPr/>
          <p:nvPr/>
        </p:nvPicPr>
        <p:blipFill>
          <a:blip r:embed="rId1"/>
          <a:stretch/>
        </p:blipFill>
        <p:spPr>
          <a:xfrm>
            <a:off x="257040" y="687240"/>
            <a:ext cx="8629920" cy="59817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784080" y="2765520"/>
            <a:ext cx="6193080" cy="10951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3"/>
          <a:stretch/>
        </p:blipFill>
        <p:spPr>
          <a:xfrm>
            <a:off x="7020000" y="3040200"/>
            <a:ext cx="1944720" cy="47304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4"/>
          <a:stretch/>
        </p:blipFill>
        <p:spPr>
          <a:xfrm>
            <a:off x="900000" y="3832200"/>
            <a:ext cx="5400720" cy="47304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5"/>
          <a:stretch/>
        </p:blipFill>
        <p:spPr>
          <a:xfrm>
            <a:off x="755640" y="4465800"/>
            <a:ext cx="7488360" cy="4730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6"/>
          <a:stretch/>
        </p:blipFill>
        <p:spPr>
          <a:xfrm>
            <a:off x="684360" y="5013360"/>
            <a:ext cx="7488000" cy="4730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7"/>
          <a:stretch/>
        </p:blipFill>
        <p:spPr>
          <a:xfrm>
            <a:off x="684360" y="5603760"/>
            <a:ext cx="8280360" cy="47304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8"/>
          <a:stretch/>
        </p:blipFill>
        <p:spPr>
          <a:xfrm>
            <a:off x="611280" y="6180120"/>
            <a:ext cx="8280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图片 63489" descr=""/>
          <p:cNvPicPr/>
          <p:nvPr/>
        </p:nvPicPr>
        <p:blipFill>
          <a:blip r:embed="rId1"/>
          <a:stretch/>
        </p:blipFill>
        <p:spPr>
          <a:xfrm>
            <a:off x="247680" y="828720"/>
            <a:ext cx="8648640" cy="55530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2"/>
          <a:stretch/>
        </p:blipFill>
        <p:spPr>
          <a:xfrm>
            <a:off x="684360" y="2838600"/>
            <a:ext cx="6983280" cy="7347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3"/>
          <a:stretch/>
        </p:blipFill>
        <p:spPr>
          <a:xfrm>
            <a:off x="1332000" y="3745080"/>
            <a:ext cx="6480000" cy="47304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4"/>
          <a:stretch/>
        </p:blipFill>
        <p:spPr>
          <a:xfrm>
            <a:off x="755640" y="4437000"/>
            <a:ext cx="6983280" cy="7351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5"/>
          <a:stretch/>
        </p:blipFill>
        <p:spPr>
          <a:xfrm>
            <a:off x="1116000" y="5300640"/>
            <a:ext cx="6480360" cy="47304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6"/>
          <a:stretch/>
        </p:blipFill>
        <p:spPr>
          <a:xfrm>
            <a:off x="1116000" y="5877000"/>
            <a:ext cx="6480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图片 62465" descr=""/>
          <p:cNvPicPr/>
          <p:nvPr/>
        </p:nvPicPr>
        <p:blipFill>
          <a:blip r:embed="rId1"/>
          <a:stretch/>
        </p:blipFill>
        <p:spPr>
          <a:xfrm>
            <a:off x="382680" y="189000"/>
            <a:ext cx="8582040" cy="63720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2"/>
          <a:stretch/>
        </p:blipFill>
        <p:spPr>
          <a:xfrm>
            <a:off x="755640" y="4667400"/>
            <a:ext cx="5040360" cy="9363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3"/>
          <a:stretch/>
        </p:blipFill>
        <p:spPr>
          <a:xfrm>
            <a:off x="611280" y="5675400"/>
            <a:ext cx="504036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60428" descr=""/>
          <p:cNvPicPr/>
          <p:nvPr/>
        </p:nvPicPr>
        <p:blipFill>
          <a:blip r:embed="rId1"/>
          <a:stretch/>
        </p:blipFill>
        <p:spPr>
          <a:xfrm>
            <a:off x="1566720" y="1138320"/>
            <a:ext cx="6010560" cy="45813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3564000" y="3803760"/>
            <a:ext cx="1079280" cy="4730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5651640" y="4537080"/>
            <a:ext cx="1079280" cy="4730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3059280" y="5099040"/>
            <a:ext cx="10792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59410" descr=""/>
          <p:cNvPicPr/>
          <p:nvPr/>
        </p:nvPicPr>
        <p:blipFill>
          <a:blip r:embed="rId1"/>
          <a:stretch/>
        </p:blipFill>
        <p:spPr>
          <a:xfrm>
            <a:off x="1571760" y="1457280"/>
            <a:ext cx="6000480" cy="3943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1152360" cy="4730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4427640" y="2579760"/>
            <a:ext cx="1152360" cy="4730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2340000" y="4826160"/>
            <a:ext cx="1152360" cy="4730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4341960" y="4840200"/>
            <a:ext cx="1152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58373" descr=""/>
          <p:cNvPicPr/>
          <p:nvPr/>
        </p:nvPicPr>
        <p:blipFill>
          <a:blip r:embed="rId1"/>
          <a:stretch/>
        </p:blipFill>
        <p:spPr>
          <a:xfrm>
            <a:off x="1652760" y="706320"/>
            <a:ext cx="59436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57352" descr=""/>
          <p:cNvPicPr/>
          <p:nvPr/>
        </p:nvPicPr>
        <p:blipFill>
          <a:blip r:embed="rId1"/>
          <a:stretch/>
        </p:blipFill>
        <p:spPr>
          <a:xfrm>
            <a:off x="1566720" y="1757520"/>
            <a:ext cx="6010560" cy="3342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3708360" y="1757520"/>
            <a:ext cx="3959280" cy="4730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3959280" cy="7920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4529160" y="2565360"/>
            <a:ext cx="3959280" cy="4730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28440" y="3371760"/>
            <a:ext cx="3959280" cy="7923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6"/>
          <a:stretch/>
        </p:blipFill>
        <p:spPr>
          <a:xfrm>
            <a:off x="4067280" y="3457440"/>
            <a:ext cx="3959280" cy="4730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7"/>
          <a:stretch/>
        </p:blipFill>
        <p:spPr>
          <a:xfrm>
            <a:off x="826920" y="4292640"/>
            <a:ext cx="52578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56324" descr=""/>
          <p:cNvPicPr/>
          <p:nvPr/>
        </p:nvPicPr>
        <p:blipFill>
          <a:blip r:embed="rId1"/>
          <a:stretch/>
        </p:blipFill>
        <p:spPr>
          <a:xfrm>
            <a:off x="1581120" y="1557360"/>
            <a:ext cx="5981760" cy="3743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3635280" y="4681440"/>
            <a:ext cx="5050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55300" descr=""/>
          <p:cNvPicPr/>
          <p:nvPr/>
        </p:nvPicPr>
        <p:blipFill>
          <a:blip r:embed="rId1"/>
          <a:stretch/>
        </p:blipFill>
        <p:spPr>
          <a:xfrm>
            <a:off x="228600" y="819000"/>
            <a:ext cx="8686800" cy="57056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8244000" y="2421000"/>
            <a:ext cx="431640" cy="4046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2195640" y="4135320"/>
            <a:ext cx="1008000" cy="4050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5148360" y="4119480"/>
            <a:ext cx="1008000" cy="4050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2195640" y="5141880"/>
            <a:ext cx="431640" cy="5475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2987640" y="5891040"/>
            <a:ext cx="122400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54276" descr=""/>
          <p:cNvPicPr/>
          <p:nvPr/>
        </p:nvPicPr>
        <p:blipFill>
          <a:blip r:embed="rId1"/>
          <a:stretch/>
        </p:blipFill>
        <p:spPr>
          <a:xfrm>
            <a:off x="228600" y="976320"/>
            <a:ext cx="8686800" cy="49053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8317080" y="1557360"/>
            <a:ext cx="431640" cy="4046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8288280" y="2781360"/>
            <a:ext cx="432000" cy="4046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8302680" y="4869000"/>
            <a:ext cx="43164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52231" descr=""/>
          <p:cNvPicPr/>
          <p:nvPr/>
        </p:nvPicPr>
        <p:blipFill>
          <a:blip r:embed="rId1"/>
          <a:stretch/>
        </p:blipFill>
        <p:spPr>
          <a:xfrm>
            <a:off x="190440" y="1133640"/>
            <a:ext cx="8763120" cy="45907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423720" y="2276640"/>
            <a:ext cx="5472360" cy="4046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5940360" y="2290680"/>
            <a:ext cx="3024360" cy="4050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395280" y="2722680"/>
            <a:ext cx="763560" cy="4046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1187280" y="2708280"/>
            <a:ext cx="2016360" cy="4046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6"/>
          <a:stretch/>
        </p:blipFill>
        <p:spPr>
          <a:xfrm>
            <a:off x="468360" y="4307040"/>
            <a:ext cx="6480000" cy="4046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7"/>
          <a:stretch/>
        </p:blipFill>
        <p:spPr>
          <a:xfrm>
            <a:off x="395280" y="4797360"/>
            <a:ext cx="6480360" cy="4050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8"/>
          <a:stretch/>
        </p:blipFill>
        <p:spPr>
          <a:xfrm>
            <a:off x="395280" y="5200560"/>
            <a:ext cx="648036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8:57:2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